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E9CBC-8BD6-4BD4-9F5A-EF9F362138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B6FB4-DDC3-465A-827E-CA2D4EB74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96C9D-DDD7-444F-8A37-80D3DD03E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7520A-659F-455B-8F30-538792FA1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C4965-711F-4250-A272-E9AC6E4C1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4D0-B0C0-4C20-80FB-7F61F118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576-41AA-4F00-8C46-75AE6B31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C82-EB21-4BE4-AFE3-B7AAE179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968-5991-4945-9FCF-4FCFB632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12B3-14C4-4A75-B785-A60CAEBC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B90E-838C-4719-B5C0-68307809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51C3-9A02-4796-8095-A74AC6FF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4538-3CD7-4B63-AA8E-DD278162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9A7F-29F2-4D4F-AD98-EF70A18A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3F0C-9D61-430F-9C11-DCD32C2F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B4EE-5A8D-4166-AA82-5339743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4B4-3083-489E-8AF5-A6E25010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C72C-21C3-41E7-954F-8FA12CA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7F27-2020-419A-95E3-052825B2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1EEE-D73F-4BA5-9F21-043340F5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8CBE-640D-4F09-A9FB-39943895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A5BA-D3E5-4546-AED0-2ECDE397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6E3E-DB74-4E40-9CAE-BBE704A9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A5E4-5999-4B69-84EC-2AED070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C599-E853-4185-9D76-0F4331EC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5C91-C6F8-46DE-9E08-788F02DA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EED0-36EA-489F-B379-805B8213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89A-D298-4E49-953C-72128706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9C5A-2439-4241-8EE3-8149C1CF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EB0F-9766-42E2-A0EE-E94CEFD2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6AF2-A540-4F1E-B39B-2B4A8395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8E47-7DAB-44BA-9F53-9920B0F4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EB95-FB43-430C-8969-FB86A3C8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EBE3-6D61-4BCA-9061-06490217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031C-D232-4373-83A2-03536144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9A88-A176-48D5-9241-E2CDAC5D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6671-65D2-491E-B6D5-683607E3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8A4F-951E-4EB7-A7BD-EB5BD77C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027-3D45-4919-94C1-5CFC28CE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5DBB-2315-465C-8B92-EB24D1B7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877D-91F6-4996-93D6-D643405C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7A41-FCEB-4F40-ACE4-E4B47D75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8FE1-D649-4D75-A454-568A20B6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D23F-6E5F-4F27-9F88-7942D6C3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9B8C-D716-43D3-9DBB-9076AC3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62FA5-2668-4FD1-835E-5DE8E1C1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2D19-B5CB-4989-88BE-41B65FAB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83AB3-1FA7-48FD-8AAF-7BC7FD66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80524-9E52-494D-B0DE-E934A3CD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710-75FD-42C9-8363-21E8B50B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35648-C5B6-44E2-A0A0-DA60E8A1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688ED-45DD-4524-894E-2CDAE2F8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9E0B8-9D3E-4DC0-A316-F5B81D72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62EA4-EBA0-4FB2-A020-95569C56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B0FCB-5F97-424E-A60D-C7EC6BB0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F1B25-A98B-4829-8C00-D1E335A8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1F58-FADF-47F4-B03C-F750D9C8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A376-0979-4FC2-A354-B5676237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855B5-0DEB-47AB-9C08-E0B8E5F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C8DCF-614D-4F3C-BA16-52E7902A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8D1-FE81-4B2E-8017-4099E900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679E4-AF4E-498D-8600-B7C36251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DBA91-9468-4B13-94BC-BDB2A79A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C2B5A-8A59-4B8C-B244-FB9164D4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ED4CD-85B3-4624-96F2-7A56B899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72B0E-4009-460A-AB57-A5DE03C1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2DF4C-2177-46F3-B1AA-9B73BD48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50B78-D18F-455B-90E3-E3EFC240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A5D57-1EAB-47C9-B768-7FB38DA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CABB5-8289-4CC2-BF18-85CD803E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76769-3581-4BC1-BE8F-9355C738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1C5-9109-4B44-AACC-7FF17C0E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EA6E4-5025-4264-AD8D-12689989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FCDA-ACAB-4548-BC1A-01CB6A79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AFBB-0F9F-476C-924B-DB9FE30A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4766-7A22-4CAF-BE87-F1135B56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F1B75-557D-4005-BD9C-AF875287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44F97-A51D-4A8A-906A-060DE0BE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A9805-0AD7-40A7-8099-E5FA6128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97F35-337F-45FF-9916-A9106B29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4C53F-39DB-4BEE-AD97-2F2DBB3F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FDA2B-8286-4C4A-913F-71247E1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81D-CE23-49AD-83A5-27648320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003B7-F954-4D4E-AAE1-7FCFA922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72D91-AA4C-4F9D-9BB3-39A09595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9D73E-9E9B-4549-BD24-0F320663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EFD60-AB0D-4672-9D34-C9C76B84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487B3-071B-4AA8-92A6-93F2527E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FD9-A8EF-4664-B017-17823C3D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4AD4E-DBF7-4FF5-8841-4763D764F79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AE3C6-44AD-43C8-843A-D87253D0F6E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5C853-6E20-423F-B3E6-457887858D5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81878-2271-4AF9-AEE1-B4A2AE79CB3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76EAE-6099-4D5C-8697-880D199B9D2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FE66F-A37C-4766-B27A-3D60F612799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6D7B7-9F5F-4A56-8606-3EB34795041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6C996-A3E9-4A22-9DE6-83840A03207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0460A-6B02-42C0-9884-B408ED8F9FC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2EDE1-40DB-417F-A7E8-DB6D00012D8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144D2-D03B-45CD-8F4A-CB4D076303C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B6B74-A86C-4EFC-B5BC-64021A9A84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88138-F0B6-4B59-95BB-08B4E22462E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20B8D-BD15-4927-995F-9DF0CDAD05F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Tour of the Diges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Tongue, teeth, salivary glands, pharynx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Esophag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piglottis and chok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Peristalsi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Cardiac and pyloric sphincters and stomach cell typ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 and gastric secre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Digestion enzymes, pH balance and maintenance of blood sug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iver / Gall blad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Roles in digestion and other body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cialization – structure and function three sections and of the vill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zyme a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unctions and anaerobic bacteria with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tum and An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pulsion of was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435720" cy="64468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"/>
          <p:cNvSpPr/>
          <p:nvPr/>
        </p:nvSpPr>
        <p:spPr>
          <a:xfrm>
            <a:off x="5486400" y="4586400"/>
            <a:ext cx="314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endi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stigial org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 need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at does the large intestine do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psorption of wa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sorption of certain vitami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contains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l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igment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heavy metals, and billions of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E. coli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providing colour and odo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What do E. coli do for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k down some indigestible f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duce some vitamins, amino acids, and other growth fa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087200" y="907560"/>
            <a:ext cx="7499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36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hysical diges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eeth and stomach churning broke it into pie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Bile broke the fats into smaller glob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mical diges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alivary amylase: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starch </a:t>
            </a:r>
            <a:r>
              <a:rPr b="0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malto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epsin in stomach: </a:t>
            </a:r>
            <a:r>
              <a:rPr b="0" i="1" lang="en-US" sz="2800" spc="-1" strike="noStrike">
                <a:solidFill>
                  <a:srgbClr val="0000ff"/>
                </a:solidFill>
                <a:latin typeface="Gill Sans MT"/>
              </a:rPr>
              <a:t>protein </a:t>
            </a:r>
            <a:r>
              <a:rPr b="0" i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ff"/>
                </a:solidFill>
                <a:latin typeface="Gill Sans MT"/>
              </a:rPr>
              <a:t> pepti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ncreatic amylase: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starch </a:t>
            </a:r>
            <a:r>
              <a:rPr b="0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malto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rypsin from the pancrea: </a:t>
            </a:r>
            <a:r>
              <a:rPr b="0" i="1" lang="en-US" sz="2800" spc="-1" strike="noStrike">
                <a:solidFill>
                  <a:srgbClr val="0000ff"/>
                </a:solidFill>
                <a:latin typeface="Gill Sans MT"/>
              </a:rPr>
              <a:t>protein </a:t>
            </a:r>
            <a:r>
              <a:rPr b="0" i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ff"/>
                </a:solidFill>
                <a:latin typeface="Gill Sans MT"/>
              </a:rPr>
              <a:t> pepti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ipase from the pancreas</a:t>
            </a:r>
            <a:r>
              <a:rPr b="0" i="1" lang="en-US" sz="2800" spc="-1" strike="noStrike">
                <a:solidFill>
                  <a:srgbClr val="0d0d0d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8000"/>
                </a:solidFill>
                <a:latin typeface="Gill Sans MT"/>
              </a:rPr>
              <a:t> fats </a:t>
            </a:r>
            <a:r>
              <a:rPr b="0" i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8000"/>
                </a:solidFill>
                <a:latin typeface="Gill Sans MT"/>
              </a:rPr>
              <a:t> glycerol + fatty ac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1 CuadroTexto"/>
          <p:cNvSpPr/>
          <p:nvPr/>
        </p:nvSpPr>
        <p:spPr>
          <a:xfrm>
            <a:off x="1258920" y="1843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Diges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Indigestion?</a:t>
            </a:r>
            <a:br>
              <a:rPr sz="3500"/>
            </a:b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Disorders in the large intestine and symptoms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1397160" y="2438280"/>
            <a:ext cx="74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1ZIK6Ua20JA&amp;feature=channel_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2383560" y="3962520"/>
            <a:ext cx="50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0yLPtYH6x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434960" y="5010120"/>
            <a:ext cx="69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review of dig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QtDgQjOGPJ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mall intestine z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 Zon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dodenum, Jejenum, Ili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4083120" y="2637000"/>
            <a:ext cx="5078520" cy="4066920"/>
          </a:xfrm>
          <a:prstGeom prst="rect">
            <a:avLst/>
          </a:prstGeom>
          <a:ln w="0">
            <a:noFill/>
          </a:ln>
        </p:spPr>
      </p:pic>
      <p:sp>
        <p:nvSpPr>
          <p:cNvPr id="331" name="3 CuadroTexto"/>
          <p:cNvSpPr/>
          <p:nvPr/>
        </p:nvSpPr>
        <p:spPr>
          <a:xfrm>
            <a:off x="900000" y="2421000"/>
            <a:ext cx="331164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pprox. 6m l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digestion and absorption of nutrients occur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2"/>
          <p:cNvSpPr/>
          <p:nvPr/>
        </p:nvSpPr>
        <p:spPr>
          <a:xfrm flipH="1">
            <a:off x="908280" y="2016000"/>
            <a:ext cx="212400" cy="6526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ats break down to molecular level!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762120" y="2438280"/>
            <a:ext cx="304560" cy="175284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y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066680" y="243828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066680" y="320040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066680" y="388620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 rot="18492600">
            <a:off x="5638680" y="2437920"/>
            <a:ext cx="304920" cy="175248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y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 rot="20085600">
            <a:off x="6629400" y="1904760"/>
            <a:ext cx="16765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 rot="21024000">
            <a:off x="7010280" y="266652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 rot="502800">
            <a:off x="6781680" y="342864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3657600" y="3505320"/>
            <a:ext cx="10335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 rot="5003400">
            <a:off x="1035360" y="1783080"/>
            <a:ext cx="290520" cy="2286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4"/>
          <p:cNvGrpSpPr/>
          <p:nvPr/>
        </p:nvGrpSpPr>
        <p:grpSpPr>
          <a:xfrm>
            <a:off x="669600" y="1740240"/>
            <a:ext cx="579600" cy="888480"/>
            <a:chOff x="669600" y="1740240"/>
            <a:chExt cx="579600" cy="888480"/>
          </a:xfrm>
        </p:grpSpPr>
        <p:sp>
          <p:nvSpPr>
            <p:cNvPr id="345" name="Oval 15"/>
            <p:cNvSpPr/>
            <p:nvPr/>
          </p:nvSpPr>
          <p:spPr>
            <a:xfrm rot="5003400">
              <a:off x="654480" y="1783080"/>
              <a:ext cx="290520" cy="2286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6"/>
            <p:cNvSpPr/>
            <p:nvPr/>
          </p:nvSpPr>
          <p:spPr>
            <a:xfrm>
              <a:off x="893880" y="2041560"/>
              <a:ext cx="355320" cy="5871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7"/>
          <p:cNvSpPr/>
          <p:nvPr/>
        </p:nvSpPr>
        <p:spPr>
          <a:xfrm rot="16200000">
            <a:off x="1631880" y="1263600"/>
            <a:ext cx="546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Li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1448640" y="4572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9"/>
          <p:cNvSpPr/>
          <p:nvPr/>
        </p:nvSpPr>
        <p:spPr>
          <a:xfrm rot="16200000">
            <a:off x="1638000" y="323784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5943600" y="4419720"/>
            <a:ext cx="26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Arial"/>
              </a:rPr>
              <a:t>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Digestive Enzymes from the Interstitial glands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Oval 3"/>
          <p:cNvSpPr/>
          <p:nvPr/>
        </p:nvSpPr>
        <p:spPr>
          <a:xfrm>
            <a:off x="1442880" y="243828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685800" y="243828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>
            <a:off x="1123920" y="2689200"/>
            <a:ext cx="353880" cy="19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3429000" y="2743200"/>
            <a:ext cx="10335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6324480" y="266688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7467480" y="205740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1"/>
          <p:cNvSpPr/>
          <p:nvPr/>
        </p:nvSpPr>
        <p:spPr>
          <a:xfrm>
            <a:off x="5545080" y="189072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2"/>
          <p:cNvGrpSpPr/>
          <p:nvPr/>
        </p:nvGrpSpPr>
        <p:grpSpPr>
          <a:xfrm>
            <a:off x="380880" y="1828800"/>
            <a:ext cx="1657440" cy="800280"/>
            <a:chOff x="380880" y="1828800"/>
            <a:chExt cx="1657440" cy="800280"/>
          </a:xfrm>
        </p:grpSpPr>
        <p:sp>
          <p:nvSpPr>
            <p:cNvPr id="360" name="Freeform 13"/>
            <p:cNvSpPr/>
            <p:nvPr/>
          </p:nvSpPr>
          <p:spPr>
            <a:xfrm>
              <a:off x="380880" y="1828800"/>
              <a:ext cx="1657440" cy="800280"/>
            </a:xfrm>
            <a:custGeom>
              <a:avLst/>
              <a:gdLst>
                <a:gd name="textAreaLeft" fmla="*/ 0 w 1657440"/>
                <a:gd name="textAreaRight" fmla="*/ 1657800 w 165744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1392" h="672">
                  <a:moveTo>
                    <a:pt x="0" y="672"/>
                  </a:moveTo>
                  <a:lnTo>
                    <a:pt x="240" y="672"/>
                  </a:lnTo>
                  <a:lnTo>
                    <a:pt x="288" y="576"/>
                  </a:lnTo>
                  <a:lnTo>
                    <a:pt x="341" y="544"/>
                  </a:lnTo>
                  <a:lnTo>
                    <a:pt x="432" y="528"/>
                  </a:lnTo>
                  <a:lnTo>
                    <a:pt x="514" y="535"/>
                  </a:lnTo>
                  <a:lnTo>
                    <a:pt x="576" y="576"/>
                  </a:lnTo>
                  <a:lnTo>
                    <a:pt x="624" y="624"/>
                  </a:lnTo>
                  <a:lnTo>
                    <a:pt x="864" y="624"/>
                  </a:lnTo>
                  <a:lnTo>
                    <a:pt x="944" y="553"/>
                  </a:lnTo>
                  <a:lnTo>
                    <a:pt x="1056" y="528"/>
                  </a:lnTo>
                  <a:lnTo>
                    <a:pt x="1182" y="553"/>
                  </a:lnTo>
                  <a:lnTo>
                    <a:pt x="1248" y="624"/>
                  </a:lnTo>
                  <a:lnTo>
                    <a:pt x="1392" y="624"/>
                  </a:lnTo>
                  <a:lnTo>
                    <a:pt x="1344" y="144"/>
                  </a:lnTo>
                  <a:lnTo>
                    <a:pt x="816" y="0"/>
                  </a:lnTo>
                  <a:lnTo>
                    <a:pt x="384" y="96"/>
                  </a:lnTo>
                  <a:lnTo>
                    <a:pt x="48" y="192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"/>
            <p:cNvSpPr/>
            <p:nvPr/>
          </p:nvSpPr>
          <p:spPr>
            <a:xfrm>
              <a:off x="685800" y="19810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lt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15"/>
          <p:cNvSpPr/>
          <p:nvPr/>
        </p:nvSpPr>
        <p:spPr>
          <a:xfrm>
            <a:off x="457200" y="310680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Maltose (from carbohyd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7162920" y="2743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7"/>
          <p:cNvSpPr/>
          <p:nvPr/>
        </p:nvSpPr>
        <p:spPr>
          <a:xfrm rot="16200000">
            <a:off x="1134000" y="2402280"/>
            <a:ext cx="304920" cy="122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226880"/>
              <a:gd name="textAreaBottom" fmla="*/ 1175400 h 122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53"/>
                  <a:pt x="10800" y="2906"/>
                </a:cubicBezTo>
                <a:lnTo>
                  <a:pt x="10800" y="7894"/>
                </a:lnTo>
                <a:cubicBezTo>
                  <a:pt x="10800" y="9347"/>
                  <a:pt x="5400" y="10800"/>
                  <a:pt x="0" y="10800"/>
                </a:cubicBezTo>
                <a:cubicBezTo>
                  <a:pt x="5400" y="10800"/>
                  <a:pt x="10800" y="12253"/>
                  <a:pt x="10800" y="13706"/>
                </a:cubicBezTo>
                <a:lnTo>
                  <a:pt x="10800" y="18694"/>
                </a:lnTo>
                <a:cubicBezTo>
                  <a:pt x="10800" y="201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19200" y="464832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967040" y="4889520"/>
            <a:ext cx="245880" cy="14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2187720" y="468324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1"/>
          <p:cNvSpPr/>
          <p:nvPr/>
        </p:nvSpPr>
        <p:spPr>
          <a:xfrm>
            <a:off x="762120" y="464832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1200240" y="4898880"/>
            <a:ext cx="353880" cy="1908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3505320" y="4952880"/>
            <a:ext cx="103320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4"/>
          <p:cNvSpPr/>
          <p:nvPr/>
        </p:nvSpPr>
        <p:spPr>
          <a:xfrm>
            <a:off x="6400800" y="487692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5"/>
          <p:cNvSpPr/>
          <p:nvPr/>
        </p:nvSpPr>
        <p:spPr>
          <a:xfrm>
            <a:off x="7543800" y="4267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6"/>
          <p:cNvSpPr/>
          <p:nvPr/>
        </p:nvSpPr>
        <p:spPr>
          <a:xfrm>
            <a:off x="5715000" y="4267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7"/>
          <p:cNvGrpSpPr/>
          <p:nvPr/>
        </p:nvGrpSpPr>
        <p:grpSpPr>
          <a:xfrm>
            <a:off x="457200" y="3568680"/>
            <a:ext cx="1676520" cy="1270080"/>
            <a:chOff x="457200" y="3568680"/>
            <a:chExt cx="1676520" cy="1270080"/>
          </a:xfrm>
        </p:grpSpPr>
        <p:sp>
          <p:nvSpPr>
            <p:cNvPr id="375" name="Freeform 28"/>
            <p:cNvSpPr/>
            <p:nvPr/>
          </p:nvSpPr>
          <p:spPr>
            <a:xfrm>
              <a:off x="457200" y="3568680"/>
              <a:ext cx="1676520" cy="12700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1056" h="800">
                  <a:moveTo>
                    <a:pt x="0" y="800"/>
                  </a:moveTo>
                  <a:lnTo>
                    <a:pt x="180" y="800"/>
                  </a:lnTo>
                  <a:lnTo>
                    <a:pt x="216" y="728"/>
                  </a:lnTo>
                  <a:lnTo>
                    <a:pt x="256" y="704"/>
                  </a:lnTo>
                  <a:lnTo>
                    <a:pt x="324" y="692"/>
                  </a:lnTo>
                  <a:lnTo>
                    <a:pt x="386" y="697"/>
                  </a:lnTo>
                  <a:lnTo>
                    <a:pt x="432" y="728"/>
                  </a:lnTo>
                  <a:lnTo>
                    <a:pt x="468" y="764"/>
                  </a:lnTo>
                  <a:lnTo>
                    <a:pt x="648" y="764"/>
                  </a:lnTo>
                  <a:lnTo>
                    <a:pt x="708" y="711"/>
                  </a:lnTo>
                  <a:lnTo>
                    <a:pt x="792" y="692"/>
                  </a:lnTo>
                  <a:lnTo>
                    <a:pt x="887" y="711"/>
                  </a:lnTo>
                  <a:lnTo>
                    <a:pt x="936" y="764"/>
                  </a:lnTo>
                  <a:lnTo>
                    <a:pt x="1056" y="745"/>
                  </a:lnTo>
                  <a:lnTo>
                    <a:pt x="932" y="474"/>
                  </a:lnTo>
                  <a:cubicBezTo>
                    <a:pt x="876" y="384"/>
                    <a:pt x="781" y="282"/>
                    <a:pt x="717" y="203"/>
                  </a:cubicBezTo>
                  <a:cubicBezTo>
                    <a:pt x="653" y="124"/>
                    <a:pt x="601" y="2"/>
                    <a:pt x="548" y="0"/>
                  </a:cubicBezTo>
                  <a:lnTo>
                    <a:pt x="401" y="192"/>
                  </a:lnTo>
                  <a:lnTo>
                    <a:pt x="0" y="8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9"/>
            <p:cNvSpPr/>
            <p:nvPr/>
          </p:nvSpPr>
          <p:spPr>
            <a:xfrm>
              <a:off x="762120" y="4191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ptid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30"/>
          <p:cNvSpPr/>
          <p:nvPr/>
        </p:nvSpPr>
        <p:spPr>
          <a:xfrm>
            <a:off x="914400" y="5334120"/>
            <a:ext cx="36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Peptide (from prote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7238880" y="4952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2"/>
          <p:cNvSpPr/>
          <p:nvPr/>
        </p:nvSpPr>
        <p:spPr>
          <a:xfrm rot="16200000">
            <a:off x="1587240" y="42346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1"/>
          <p:cNvSpPr/>
          <p:nvPr/>
        </p:nvSpPr>
        <p:spPr>
          <a:xfrm>
            <a:off x="6248520" y="189072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rcRect l="0" t="0" r="53150" b="0"/>
          <a:stretch/>
        </p:blipFill>
        <p:spPr>
          <a:xfrm>
            <a:off x="1143000" y="977760"/>
            <a:ext cx="4759200" cy="63374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ide the small intest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901840" y="1447560"/>
            <a:ext cx="3032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rge folds line the intestine called villi and microvill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= LOTS of surface are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How much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5981760" y="5356080"/>
            <a:ext cx="3162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6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ize of a baseball diamo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Vil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86" name="Group 22"/>
          <p:cNvGrpSpPr/>
          <p:nvPr/>
        </p:nvGrpSpPr>
        <p:grpSpPr>
          <a:xfrm>
            <a:off x="764280" y="2133720"/>
            <a:ext cx="7617240" cy="2039400"/>
            <a:chOff x="764280" y="2133720"/>
            <a:chExt cx="7617240" cy="2039400"/>
          </a:xfrm>
        </p:grpSpPr>
        <p:grpSp>
          <p:nvGrpSpPr>
            <p:cNvPr id="387" name="Group 5"/>
            <p:cNvGrpSpPr/>
            <p:nvPr/>
          </p:nvGrpSpPr>
          <p:grpSpPr>
            <a:xfrm>
              <a:off x="1631160" y="2133720"/>
              <a:ext cx="5716800" cy="1611000"/>
              <a:chOff x="1631160" y="2133720"/>
              <a:chExt cx="5716800" cy="1611000"/>
            </a:xfrm>
          </p:grpSpPr>
          <p:sp>
            <p:nvSpPr>
              <p:cNvPr id="388" name="Line 6"/>
              <p:cNvSpPr/>
              <p:nvPr/>
            </p:nvSpPr>
            <p:spPr>
              <a:xfrm>
                <a:off x="1631160" y="2133720"/>
                <a:ext cx="564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7"/>
              <p:cNvSpPr/>
              <p:nvPr/>
            </p:nvSpPr>
            <p:spPr>
              <a:xfrm>
                <a:off x="1699920" y="3744720"/>
                <a:ext cx="564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8"/>
            <p:cNvGrpSpPr/>
            <p:nvPr/>
          </p:nvGrpSpPr>
          <p:grpSpPr>
            <a:xfrm>
              <a:off x="1606680" y="2207160"/>
              <a:ext cx="5763240" cy="1506960"/>
              <a:chOff x="1606680" y="2207160"/>
              <a:chExt cx="5763240" cy="1506960"/>
            </a:xfrm>
          </p:grpSpPr>
          <p:sp>
            <p:nvSpPr>
              <p:cNvPr id="391" name="Freeform 9"/>
              <p:cNvSpPr/>
              <p:nvPr/>
            </p:nvSpPr>
            <p:spPr>
              <a:xfrm>
                <a:off x="1606680" y="2207160"/>
                <a:ext cx="5602320" cy="1011600"/>
              </a:xfrm>
              <a:custGeom>
                <a:avLst/>
                <a:gdLst>
                  <a:gd name="textAreaLeft" fmla="*/ 0 w 5602320"/>
                  <a:gd name="textAreaRight" fmla="*/ 5602680 w 5602320"/>
                  <a:gd name="textAreaTop" fmla="*/ 0 h 1011600"/>
                  <a:gd name="textAreaBottom" fmla="*/ 1011960 h 1011600"/>
                </a:gdLst>
                <a:ahLst/>
                <a:rect l="textAreaLeft" t="textAreaTop" r="textAreaRight" b="textAreaBottom"/>
                <a:pathLst>
                  <a:path w="3904" h="392">
                    <a:moveTo>
                      <a:pt x="16" y="32"/>
                    </a:moveTo>
                    <a:cubicBezTo>
                      <a:pt x="8" y="32"/>
                      <a:pt x="0" y="32"/>
                      <a:pt x="64" y="32"/>
                    </a:cubicBezTo>
                    <a:cubicBezTo>
                      <a:pt x="128" y="32"/>
                      <a:pt x="344" y="8"/>
                      <a:pt x="400" y="32"/>
                    </a:cubicBezTo>
                    <a:cubicBezTo>
                      <a:pt x="456" y="56"/>
                      <a:pt x="391" y="135"/>
                      <a:pt x="400" y="176"/>
                    </a:cubicBezTo>
                    <a:cubicBezTo>
                      <a:pt x="409" y="217"/>
                      <a:pt x="419" y="255"/>
                      <a:pt x="455" y="277"/>
                    </a:cubicBezTo>
                    <a:cubicBezTo>
                      <a:pt x="491" y="299"/>
                      <a:pt x="572" y="319"/>
                      <a:pt x="619" y="310"/>
                    </a:cubicBezTo>
                    <a:cubicBezTo>
                      <a:pt x="666" y="301"/>
                      <a:pt x="724" y="270"/>
                      <a:pt x="736" y="224"/>
                    </a:cubicBezTo>
                    <a:cubicBezTo>
                      <a:pt x="748" y="178"/>
                      <a:pt x="632" y="64"/>
                      <a:pt x="688" y="32"/>
                    </a:cubicBezTo>
                    <a:cubicBezTo>
                      <a:pt x="744" y="0"/>
                      <a:pt x="1000" y="8"/>
                      <a:pt x="1072" y="32"/>
                    </a:cubicBezTo>
                    <a:cubicBezTo>
                      <a:pt x="1144" y="56"/>
                      <a:pt x="1083" y="130"/>
                      <a:pt x="1120" y="176"/>
                    </a:cubicBezTo>
                    <a:cubicBezTo>
                      <a:pt x="1157" y="222"/>
                      <a:pt x="1231" y="295"/>
                      <a:pt x="1294" y="310"/>
                    </a:cubicBezTo>
                    <a:cubicBezTo>
                      <a:pt x="1357" y="325"/>
                      <a:pt x="1453" y="292"/>
                      <a:pt x="1500" y="269"/>
                    </a:cubicBezTo>
                    <a:cubicBezTo>
                      <a:pt x="1547" y="246"/>
                      <a:pt x="1557" y="202"/>
                      <a:pt x="1574" y="171"/>
                    </a:cubicBezTo>
                    <a:cubicBezTo>
                      <a:pt x="1591" y="140"/>
                      <a:pt x="1596" y="103"/>
                      <a:pt x="1600" y="80"/>
                    </a:cubicBezTo>
                    <a:cubicBezTo>
                      <a:pt x="1604" y="57"/>
                      <a:pt x="1528" y="40"/>
                      <a:pt x="1600" y="32"/>
                    </a:cubicBezTo>
                    <a:cubicBezTo>
                      <a:pt x="1672" y="24"/>
                      <a:pt x="1936" y="24"/>
                      <a:pt x="2032" y="32"/>
                    </a:cubicBezTo>
                    <a:cubicBezTo>
                      <a:pt x="2128" y="40"/>
                      <a:pt x="2168" y="56"/>
                      <a:pt x="2176" y="80"/>
                    </a:cubicBezTo>
                    <a:cubicBezTo>
                      <a:pt x="2184" y="104"/>
                      <a:pt x="2096" y="144"/>
                      <a:pt x="2080" y="176"/>
                    </a:cubicBezTo>
                    <a:cubicBezTo>
                      <a:pt x="2064" y="208"/>
                      <a:pt x="2048" y="240"/>
                      <a:pt x="2080" y="272"/>
                    </a:cubicBezTo>
                    <a:cubicBezTo>
                      <a:pt x="2112" y="304"/>
                      <a:pt x="2208" y="368"/>
                      <a:pt x="2272" y="368"/>
                    </a:cubicBezTo>
                    <a:cubicBezTo>
                      <a:pt x="2336" y="368"/>
                      <a:pt x="2424" y="304"/>
                      <a:pt x="2464" y="272"/>
                    </a:cubicBezTo>
                    <a:cubicBezTo>
                      <a:pt x="2504" y="240"/>
                      <a:pt x="2512" y="200"/>
                      <a:pt x="2512" y="176"/>
                    </a:cubicBezTo>
                    <a:cubicBezTo>
                      <a:pt x="2512" y="152"/>
                      <a:pt x="2480" y="152"/>
                      <a:pt x="2464" y="128"/>
                    </a:cubicBezTo>
                    <a:cubicBezTo>
                      <a:pt x="2448" y="104"/>
                      <a:pt x="2336" y="48"/>
                      <a:pt x="2416" y="32"/>
                    </a:cubicBezTo>
                    <a:cubicBezTo>
                      <a:pt x="2496" y="16"/>
                      <a:pt x="2848" y="16"/>
                      <a:pt x="2944" y="32"/>
                    </a:cubicBezTo>
                    <a:cubicBezTo>
                      <a:pt x="3040" y="48"/>
                      <a:pt x="2992" y="96"/>
                      <a:pt x="2992" y="128"/>
                    </a:cubicBezTo>
                    <a:cubicBezTo>
                      <a:pt x="2992" y="160"/>
                      <a:pt x="2952" y="192"/>
                      <a:pt x="2944" y="224"/>
                    </a:cubicBezTo>
                    <a:cubicBezTo>
                      <a:pt x="2936" y="256"/>
                      <a:pt x="2912" y="296"/>
                      <a:pt x="2944" y="320"/>
                    </a:cubicBezTo>
                    <a:cubicBezTo>
                      <a:pt x="2976" y="344"/>
                      <a:pt x="3080" y="360"/>
                      <a:pt x="3136" y="368"/>
                    </a:cubicBezTo>
                    <a:cubicBezTo>
                      <a:pt x="3192" y="376"/>
                      <a:pt x="3232" y="392"/>
                      <a:pt x="3280" y="368"/>
                    </a:cubicBezTo>
                    <a:cubicBezTo>
                      <a:pt x="3328" y="344"/>
                      <a:pt x="3400" y="264"/>
                      <a:pt x="3424" y="224"/>
                    </a:cubicBezTo>
                    <a:cubicBezTo>
                      <a:pt x="3448" y="184"/>
                      <a:pt x="3440" y="152"/>
                      <a:pt x="3424" y="128"/>
                    </a:cubicBezTo>
                    <a:cubicBezTo>
                      <a:pt x="3408" y="104"/>
                      <a:pt x="3344" y="96"/>
                      <a:pt x="3328" y="80"/>
                    </a:cubicBezTo>
                    <a:cubicBezTo>
                      <a:pt x="3312" y="64"/>
                      <a:pt x="3232" y="40"/>
                      <a:pt x="3328" y="32"/>
                    </a:cubicBezTo>
                    <a:cubicBezTo>
                      <a:pt x="3424" y="24"/>
                      <a:pt x="3664" y="28"/>
                      <a:pt x="3904" y="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0"/>
              <p:cNvSpPr/>
              <p:nvPr/>
            </p:nvSpPr>
            <p:spPr>
              <a:xfrm>
                <a:off x="1616760" y="2702520"/>
                <a:ext cx="5753160" cy="1011600"/>
              </a:xfrm>
              <a:custGeom>
                <a:avLst/>
                <a:gdLst>
                  <a:gd name="textAreaLeft" fmla="*/ 0 w 5753160"/>
                  <a:gd name="textAreaRight" fmla="*/ 5753520 w 5753160"/>
                  <a:gd name="textAreaTop" fmla="*/ 0 h 1011600"/>
                  <a:gd name="textAreaBottom" fmla="*/ 1011960 h 1011600"/>
                </a:gdLst>
                <a:ahLst/>
                <a:rect l="textAreaLeft" t="textAreaTop" r="textAreaRight" b="textAreaBottom"/>
                <a:pathLst>
                  <a:path w="4009" h="392">
                    <a:moveTo>
                      <a:pt x="57" y="368"/>
                    </a:moveTo>
                    <a:cubicBezTo>
                      <a:pt x="85" y="380"/>
                      <a:pt x="113" y="392"/>
                      <a:pt x="105" y="368"/>
                    </a:cubicBezTo>
                    <a:cubicBezTo>
                      <a:pt x="97" y="344"/>
                      <a:pt x="0" y="261"/>
                      <a:pt x="9" y="224"/>
                    </a:cubicBezTo>
                    <a:cubicBezTo>
                      <a:pt x="18" y="187"/>
                      <a:pt x="120" y="159"/>
                      <a:pt x="160" y="143"/>
                    </a:cubicBezTo>
                    <a:cubicBezTo>
                      <a:pt x="200" y="127"/>
                      <a:pt x="208" y="120"/>
                      <a:pt x="249" y="128"/>
                    </a:cubicBezTo>
                    <a:cubicBezTo>
                      <a:pt x="290" y="136"/>
                      <a:pt x="375" y="166"/>
                      <a:pt x="407" y="192"/>
                    </a:cubicBezTo>
                    <a:cubicBezTo>
                      <a:pt x="439" y="218"/>
                      <a:pt x="432" y="257"/>
                      <a:pt x="440" y="283"/>
                    </a:cubicBezTo>
                    <a:cubicBezTo>
                      <a:pt x="448" y="309"/>
                      <a:pt x="440" y="335"/>
                      <a:pt x="456" y="349"/>
                    </a:cubicBezTo>
                    <a:cubicBezTo>
                      <a:pt x="472" y="363"/>
                      <a:pt x="492" y="365"/>
                      <a:pt x="537" y="368"/>
                    </a:cubicBezTo>
                    <a:cubicBezTo>
                      <a:pt x="582" y="371"/>
                      <a:pt x="695" y="383"/>
                      <a:pt x="729" y="368"/>
                    </a:cubicBezTo>
                    <a:cubicBezTo>
                      <a:pt x="763" y="353"/>
                      <a:pt x="729" y="311"/>
                      <a:pt x="744" y="275"/>
                    </a:cubicBezTo>
                    <a:cubicBezTo>
                      <a:pt x="759" y="239"/>
                      <a:pt x="785" y="172"/>
                      <a:pt x="818" y="151"/>
                    </a:cubicBezTo>
                    <a:cubicBezTo>
                      <a:pt x="851" y="130"/>
                      <a:pt x="909" y="147"/>
                      <a:pt x="942" y="151"/>
                    </a:cubicBezTo>
                    <a:cubicBezTo>
                      <a:pt x="975" y="155"/>
                      <a:pt x="989" y="164"/>
                      <a:pt x="1017" y="176"/>
                    </a:cubicBezTo>
                    <a:cubicBezTo>
                      <a:pt x="1045" y="188"/>
                      <a:pt x="1081" y="208"/>
                      <a:pt x="1113" y="224"/>
                    </a:cubicBezTo>
                    <a:cubicBezTo>
                      <a:pt x="1145" y="240"/>
                      <a:pt x="1185" y="248"/>
                      <a:pt x="1209" y="272"/>
                    </a:cubicBezTo>
                    <a:cubicBezTo>
                      <a:pt x="1233" y="296"/>
                      <a:pt x="1217" y="352"/>
                      <a:pt x="1257" y="368"/>
                    </a:cubicBezTo>
                    <a:cubicBezTo>
                      <a:pt x="1297" y="384"/>
                      <a:pt x="1409" y="384"/>
                      <a:pt x="1449" y="368"/>
                    </a:cubicBezTo>
                    <a:cubicBezTo>
                      <a:pt x="1489" y="352"/>
                      <a:pt x="1473" y="304"/>
                      <a:pt x="1497" y="272"/>
                    </a:cubicBezTo>
                    <a:cubicBezTo>
                      <a:pt x="1521" y="240"/>
                      <a:pt x="1539" y="196"/>
                      <a:pt x="1593" y="176"/>
                    </a:cubicBezTo>
                    <a:cubicBezTo>
                      <a:pt x="1647" y="156"/>
                      <a:pt x="1766" y="151"/>
                      <a:pt x="1822" y="151"/>
                    </a:cubicBezTo>
                    <a:cubicBezTo>
                      <a:pt x="1878" y="151"/>
                      <a:pt x="1895" y="156"/>
                      <a:pt x="1929" y="176"/>
                    </a:cubicBezTo>
                    <a:cubicBezTo>
                      <a:pt x="1963" y="196"/>
                      <a:pt x="1993" y="248"/>
                      <a:pt x="2025" y="272"/>
                    </a:cubicBezTo>
                    <a:cubicBezTo>
                      <a:pt x="2057" y="296"/>
                      <a:pt x="2097" y="304"/>
                      <a:pt x="2121" y="320"/>
                    </a:cubicBezTo>
                    <a:cubicBezTo>
                      <a:pt x="2145" y="336"/>
                      <a:pt x="2129" y="360"/>
                      <a:pt x="2169" y="368"/>
                    </a:cubicBezTo>
                    <a:cubicBezTo>
                      <a:pt x="2209" y="376"/>
                      <a:pt x="2305" y="368"/>
                      <a:pt x="2361" y="368"/>
                    </a:cubicBezTo>
                    <a:cubicBezTo>
                      <a:pt x="2417" y="368"/>
                      <a:pt x="2481" y="384"/>
                      <a:pt x="2505" y="368"/>
                    </a:cubicBezTo>
                    <a:cubicBezTo>
                      <a:pt x="2529" y="352"/>
                      <a:pt x="2502" y="296"/>
                      <a:pt x="2505" y="272"/>
                    </a:cubicBezTo>
                    <a:cubicBezTo>
                      <a:pt x="2508" y="248"/>
                      <a:pt x="2511" y="245"/>
                      <a:pt x="2521" y="225"/>
                    </a:cubicBezTo>
                    <a:cubicBezTo>
                      <a:pt x="2531" y="205"/>
                      <a:pt x="2545" y="173"/>
                      <a:pt x="2563" y="151"/>
                    </a:cubicBezTo>
                    <a:cubicBezTo>
                      <a:pt x="2581" y="129"/>
                      <a:pt x="2603" y="97"/>
                      <a:pt x="2628" y="94"/>
                    </a:cubicBezTo>
                    <a:cubicBezTo>
                      <a:pt x="2653" y="91"/>
                      <a:pt x="2684" y="116"/>
                      <a:pt x="2711" y="135"/>
                    </a:cubicBezTo>
                    <a:cubicBezTo>
                      <a:pt x="2738" y="154"/>
                      <a:pt x="2771" y="186"/>
                      <a:pt x="2793" y="209"/>
                    </a:cubicBezTo>
                    <a:cubicBezTo>
                      <a:pt x="2815" y="232"/>
                      <a:pt x="2833" y="254"/>
                      <a:pt x="2841" y="272"/>
                    </a:cubicBezTo>
                    <a:cubicBezTo>
                      <a:pt x="2849" y="290"/>
                      <a:pt x="2841" y="304"/>
                      <a:pt x="2841" y="320"/>
                    </a:cubicBezTo>
                    <a:cubicBezTo>
                      <a:pt x="2841" y="336"/>
                      <a:pt x="2753" y="360"/>
                      <a:pt x="2841" y="368"/>
                    </a:cubicBezTo>
                    <a:cubicBezTo>
                      <a:pt x="2929" y="376"/>
                      <a:pt x="3257" y="368"/>
                      <a:pt x="3369" y="368"/>
                    </a:cubicBezTo>
                    <a:cubicBezTo>
                      <a:pt x="3481" y="368"/>
                      <a:pt x="3488" y="382"/>
                      <a:pt x="3513" y="368"/>
                    </a:cubicBezTo>
                    <a:cubicBezTo>
                      <a:pt x="3538" y="354"/>
                      <a:pt x="3515" y="312"/>
                      <a:pt x="3517" y="283"/>
                    </a:cubicBezTo>
                    <a:cubicBezTo>
                      <a:pt x="3519" y="254"/>
                      <a:pt x="3518" y="218"/>
                      <a:pt x="3525" y="192"/>
                    </a:cubicBezTo>
                    <a:cubicBezTo>
                      <a:pt x="3532" y="166"/>
                      <a:pt x="3528" y="154"/>
                      <a:pt x="3558" y="127"/>
                    </a:cubicBezTo>
                    <a:cubicBezTo>
                      <a:pt x="3588" y="100"/>
                      <a:pt x="3657" y="48"/>
                      <a:pt x="3705" y="32"/>
                    </a:cubicBezTo>
                    <a:cubicBezTo>
                      <a:pt x="3753" y="16"/>
                      <a:pt x="3817" y="0"/>
                      <a:pt x="3849" y="32"/>
                    </a:cubicBezTo>
                    <a:cubicBezTo>
                      <a:pt x="3881" y="64"/>
                      <a:pt x="3889" y="184"/>
                      <a:pt x="3897" y="224"/>
                    </a:cubicBezTo>
                    <a:cubicBezTo>
                      <a:pt x="3905" y="264"/>
                      <a:pt x="3897" y="248"/>
                      <a:pt x="3897" y="272"/>
                    </a:cubicBezTo>
                    <a:cubicBezTo>
                      <a:pt x="3897" y="296"/>
                      <a:pt x="3881" y="352"/>
                      <a:pt x="3897" y="368"/>
                    </a:cubicBezTo>
                    <a:cubicBezTo>
                      <a:pt x="3913" y="384"/>
                      <a:pt x="3977" y="376"/>
                      <a:pt x="3993" y="368"/>
                    </a:cubicBezTo>
                    <a:cubicBezTo>
                      <a:pt x="4009" y="360"/>
                      <a:pt x="4001" y="340"/>
                      <a:pt x="3993" y="3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"/>
            <p:cNvGrpSpPr/>
            <p:nvPr/>
          </p:nvGrpSpPr>
          <p:grpSpPr>
            <a:xfrm>
              <a:off x="764280" y="2186640"/>
              <a:ext cx="1418040" cy="489600"/>
              <a:chOff x="764280" y="2186640"/>
              <a:chExt cx="1418040" cy="489600"/>
            </a:xfrm>
          </p:grpSpPr>
          <p:sp>
            <p:nvSpPr>
              <p:cNvPr id="394" name="Text Box 12"/>
              <p:cNvSpPr/>
              <p:nvPr/>
            </p:nvSpPr>
            <p:spPr>
              <a:xfrm>
                <a:off x="764280" y="2307960"/>
                <a:ext cx="120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4f271c"/>
                    </a:solidFill>
                    <a:latin typeface="Arial"/>
                  </a:rPr>
                  <a:t>Outer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3"/>
              <p:cNvSpPr/>
              <p:nvPr/>
            </p:nvSpPr>
            <p:spPr>
              <a:xfrm flipV="1">
                <a:off x="1730520" y="2186640"/>
                <a:ext cx="451800" cy="239400"/>
              </a:xfrm>
              <a:prstGeom prst="line">
                <a:avLst/>
              </a:prstGeom>
              <a:ln w="9360">
                <a:solidFill>
                  <a:srgbClr val="4f27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4"/>
            <p:cNvGrpSpPr/>
            <p:nvPr/>
          </p:nvGrpSpPr>
          <p:grpSpPr>
            <a:xfrm>
              <a:off x="764280" y="3085560"/>
              <a:ext cx="1288800" cy="1087560"/>
              <a:chOff x="764280" y="3085560"/>
              <a:chExt cx="1288800" cy="1087560"/>
            </a:xfrm>
          </p:grpSpPr>
          <p:sp>
            <p:nvSpPr>
              <p:cNvPr id="397" name="Text Box 15"/>
              <p:cNvSpPr/>
              <p:nvPr/>
            </p:nvSpPr>
            <p:spPr>
              <a:xfrm>
                <a:off x="764280" y="3804840"/>
                <a:ext cx="115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4f271c"/>
                    </a:solidFill>
                    <a:latin typeface="Arial"/>
                  </a:rPr>
                  <a:t>Inner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6"/>
              <p:cNvSpPr/>
              <p:nvPr/>
            </p:nvSpPr>
            <p:spPr>
              <a:xfrm flipV="1">
                <a:off x="1472040" y="3085560"/>
                <a:ext cx="581040" cy="718920"/>
              </a:xfrm>
              <a:prstGeom prst="line">
                <a:avLst/>
              </a:prstGeom>
              <a:ln w="9360">
                <a:solidFill>
                  <a:srgbClr val="4f27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Freeform 17"/>
            <p:cNvSpPr/>
            <p:nvPr/>
          </p:nvSpPr>
          <p:spPr>
            <a:xfrm>
              <a:off x="1278360" y="2486880"/>
              <a:ext cx="5991840" cy="1033200"/>
            </a:xfrm>
            <a:custGeom>
              <a:avLst/>
              <a:gdLst>
                <a:gd name="textAreaLeft" fmla="*/ 0 w 5991840"/>
                <a:gd name="textAreaRight" fmla="*/ 5992200 w 599184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4176" h="400">
                  <a:moveTo>
                    <a:pt x="0" y="272"/>
                  </a:moveTo>
                  <a:cubicBezTo>
                    <a:pt x="84" y="216"/>
                    <a:pt x="168" y="160"/>
                    <a:pt x="240" y="128"/>
                  </a:cubicBezTo>
                  <a:cubicBezTo>
                    <a:pt x="312" y="96"/>
                    <a:pt x="368" y="64"/>
                    <a:pt x="432" y="80"/>
                  </a:cubicBezTo>
                  <a:cubicBezTo>
                    <a:pt x="496" y="96"/>
                    <a:pt x="560" y="192"/>
                    <a:pt x="624" y="224"/>
                  </a:cubicBezTo>
                  <a:cubicBezTo>
                    <a:pt x="688" y="256"/>
                    <a:pt x="744" y="280"/>
                    <a:pt x="816" y="272"/>
                  </a:cubicBezTo>
                  <a:cubicBezTo>
                    <a:pt x="888" y="264"/>
                    <a:pt x="1000" y="208"/>
                    <a:pt x="1056" y="176"/>
                  </a:cubicBezTo>
                  <a:cubicBezTo>
                    <a:pt x="1112" y="144"/>
                    <a:pt x="1104" y="72"/>
                    <a:pt x="1152" y="80"/>
                  </a:cubicBezTo>
                  <a:cubicBezTo>
                    <a:pt x="1200" y="88"/>
                    <a:pt x="1280" y="192"/>
                    <a:pt x="1344" y="224"/>
                  </a:cubicBezTo>
                  <a:cubicBezTo>
                    <a:pt x="1408" y="256"/>
                    <a:pt x="1440" y="280"/>
                    <a:pt x="1536" y="272"/>
                  </a:cubicBezTo>
                  <a:cubicBezTo>
                    <a:pt x="1632" y="264"/>
                    <a:pt x="1832" y="208"/>
                    <a:pt x="1920" y="176"/>
                  </a:cubicBezTo>
                  <a:cubicBezTo>
                    <a:pt x="2008" y="144"/>
                    <a:pt x="2008" y="64"/>
                    <a:pt x="2064" y="80"/>
                  </a:cubicBezTo>
                  <a:cubicBezTo>
                    <a:pt x="2120" y="96"/>
                    <a:pt x="2176" y="232"/>
                    <a:pt x="2256" y="272"/>
                  </a:cubicBezTo>
                  <a:cubicBezTo>
                    <a:pt x="2336" y="312"/>
                    <a:pt x="2464" y="328"/>
                    <a:pt x="2544" y="320"/>
                  </a:cubicBezTo>
                  <a:cubicBezTo>
                    <a:pt x="2624" y="312"/>
                    <a:pt x="2680" y="264"/>
                    <a:pt x="2736" y="224"/>
                  </a:cubicBezTo>
                  <a:cubicBezTo>
                    <a:pt x="2792" y="184"/>
                    <a:pt x="2832" y="88"/>
                    <a:pt x="2880" y="80"/>
                  </a:cubicBezTo>
                  <a:cubicBezTo>
                    <a:pt x="2928" y="72"/>
                    <a:pt x="2976" y="128"/>
                    <a:pt x="3024" y="176"/>
                  </a:cubicBezTo>
                  <a:cubicBezTo>
                    <a:pt x="3072" y="224"/>
                    <a:pt x="3088" y="336"/>
                    <a:pt x="3168" y="368"/>
                  </a:cubicBezTo>
                  <a:cubicBezTo>
                    <a:pt x="3248" y="400"/>
                    <a:pt x="3416" y="392"/>
                    <a:pt x="3504" y="368"/>
                  </a:cubicBezTo>
                  <a:cubicBezTo>
                    <a:pt x="3592" y="344"/>
                    <a:pt x="3632" y="280"/>
                    <a:pt x="3696" y="224"/>
                  </a:cubicBezTo>
                  <a:cubicBezTo>
                    <a:pt x="3760" y="168"/>
                    <a:pt x="3808" y="64"/>
                    <a:pt x="3888" y="32"/>
                  </a:cubicBezTo>
                  <a:cubicBezTo>
                    <a:pt x="3968" y="0"/>
                    <a:pt x="4128" y="32"/>
                    <a:pt x="4176" y="32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8"/>
            <p:cNvSpPr/>
            <p:nvPr/>
          </p:nvSpPr>
          <p:spPr>
            <a:xfrm>
              <a:off x="7348320" y="2426760"/>
              <a:ext cx="103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athway for F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19" descr="107%20villi"/>
          <p:cNvPicPr/>
          <p:nvPr/>
        </p:nvPicPr>
        <p:blipFill>
          <a:blip r:embed="rId1"/>
          <a:srcRect l="0" t="17163" r="0" b="0"/>
          <a:stretch/>
        </p:blipFill>
        <p:spPr>
          <a:xfrm>
            <a:off x="4038480" y="3840120"/>
            <a:ext cx="4038840" cy="2676600"/>
          </a:xfrm>
          <a:prstGeom prst="rect">
            <a:avLst/>
          </a:prstGeom>
          <a:ln w="57240">
            <a:solidFill>
              <a:srgbClr val="4f271c"/>
            </a:solidFill>
            <a:miter/>
          </a:ln>
        </p:spPr>
      </p:pic>
      <p:sp>
        <p:nvSpPr>
          <p:cNvPr id="402" name="Line 24"/>
          <p:cNvSpPr/>
          <p:nvPr/>
        </p:nvSpPr>
        <p:spPr>
          <a:xfrm>
            <a:off x="3962520" y="3124080"/>
            <a:ext cx="29880" cy="666720"/>
          </a:xfrm>
          <a:prstGeom prst="line">
            <a:avLst/>
          </a:prstGeom>
          <a:ln w="572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5"/>
          <p:cNvSpPr/>
          <p:nvPr/>
        </p:nvSpPr>
        <p:spPr>
          <a:xfrm>
            <a:off x="4343400" y="3124080"/>
            <a:ext cx="3733920" cy="663840"/>
          </a:xfrm>
          <a:prstGeom prst="line">
            <a:avLst/>
          </a:prstGeom>
          <a:ln w="572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3984480" y="2967120"/>
            <a:ext cx="381240" cy="228600"/>
          </a:xfrm>
          <a:prstGeom prst="rect">
            <a:avLst/>
          </a:prstGeom>
          <a:noFill/>
          <a:ln w="572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-70200"/>
            <a:ext cx="198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l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462560" y="20160"/>
            <a:ext cx="4681440" cy="68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villus has a very thin layer of cells around it (epithelium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neath the cells are a lymphatic vessel and a blood capillar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tty acids and glycerol enter the lymphatic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lucose and amino acids enter to the blood system and are taken to the liver where they are proces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rcRect l="49607" t="0" r="17719" b="0"/>
          <a:stretch/>
        </p:blipFill>
        <p:spPr>
          <a:xfrm>
            <a:off x="1042920" y="765000"/>
            <a:ext cx="33195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close up look at vil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9" name="Picture 5" descr="villismall"/>
          <p:cNvPicPr/>
          <p:nvPr/>
        </p:nvPicPr>
        <p:blipFill>
          <a:blip r:embed="rId1"/>
          <a:stretch/>
        </p:blipFill>
        <p:spPr>
          <a:xfrm>
            <a:off x="2971800" y="1601640"/>
            <a:ext cx="381492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arge Intest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sts of the colon, the rectum and the opening at the end, the an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on has 3 par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scend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escend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long is i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bout 1.5m long (about 5 fee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st 20 cm is the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ct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47:49Z</dcterms:created>
  <dc:creator>Lisa Marcos</dc:creator>
  <dc:description/>
  <dc:language>en-US</dc:language>
  <cp:lastModifiedBy>USUARIO</cp:lastModifiedBy>
  <dcterms:modified xsi:type="dcterms:W3CDTF">2013-04-09T16:04:38Z</dcterms:modified>
  <cp:revision>47</cp:revision>
  <dc:subject/>
  <dc:title>The Digestive System Biology 12</dc:title>
</cp:coreProperties>
</file>